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7.jpeg" ContentType="image/jpe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111C-A140-4694-AD23-10C8ED02D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B00B-39BD-4E73-BAE8-E36A0F5CF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C3E4-EC52-4261-9C1D-F3C69F3C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812D-3048-4710-ABD9-57CC3B519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B886-E9F6-41EB-B832-5DE1C61EE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DB39-3A06-4CCA-AECF-87C70434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A6F9-3BC7-411F-A1B4-D1843ABE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FA01-E441-4180-AE70-66EB6D31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AE70-6F56-4FBA-A5AE-7B87B15C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8EC7-8B16-47CF-842E-9DC5C7C6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9432-B6C7-4F38-8802-5D5BABF1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5793-BD21-4B24-A2E6-ACCE1375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71E6-10A6-4558-A570-E0B59BEA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8B91-9056-4038-99F4-43CA5337D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3809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Visit to the Zo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Kathy S. Wh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Œ2001 Kathy S. White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400068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 the Zo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556272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the monke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5791320" cy="44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 the Zo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556272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the alligato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4714920" cy="40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 the Zo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556272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the came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541008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 the Zo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556272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the hipp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609624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 the Zo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556272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the l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541008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a Zo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3657600"/>
            <a:ext cx="2971800" cy="2532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43000" y="4419720"/>
            <a:ext cx="1816200" cy="1511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876920" y="1981080"/>
            <a:ext cx="400032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 the Zo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556272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the rhinocer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-533520" y="2514600"/>
            <a:ext cx="441036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 the Zo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556272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the l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51055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 the Zo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556272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the zebr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0" y="2133720"/>
            <a:ext cx="5181480" cy="44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 the Zo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556272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the snak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547704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e animals a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 the Zo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556272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219320" y="1447920"/>
            <a:ext cx="571500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e E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the bea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362320" y="1981080"/>
            <a:ext cx="508932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 the Zo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556272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the giraff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5235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 the Zo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556272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the elepha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362320" y="1676520"/>
            <a:ext cx="556236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 the Zo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556272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the se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90920" y="1981080"/>
            <a:ext cx="5257800" cy="45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9T21:48:01Z</dcterms:created>
  <dc:creator>School District of Janesville</dc:creator>
  <dc:description/>
  <dc:language>en-US</dc:language>
  <cp:lastModifiedBy> </cp:lastModifiedBy>
  <dcterms:modified xsi:type="dcterms:W3CDTF">2005-01-27T19:52:41Z</dcterms:modified>
  <cp:revision>6</cp:revision>
  <dc:subject/>
  <dc:title>Animals Animals</dc:title>
</cp:coreProperties>
</file>